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3DD-39FA-4B18-9AB7-5BF23E0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730-33AD-4360-B4F3-4952E10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3BE-AAEE-4C01-BE08-F2E59AFA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1BC-16C2-476D-910E-1675A14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CFD-B1CA-4F5B-8DC4-4A74CCC4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DBCE-2E14-4A47-9FBB-C0657588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0E86-8C71-4176-B66C-70F6FAB7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737-9837-4785-A2D7-493320B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1D67-EEC9-4C94-B02F-D52080A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85C-AB12-4D8E-8A42-B7EBD6E5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367F-1973-4D59-97D8-82E0582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0E5-B7F4-474E-B323-0035F7DF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E623-F42A-46D4-9979-B0A1C4B8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A304-EFD9-406D-AD0F-C6BFD5E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5DEE-D3CD-4029-B5F9-B824BF7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A53-937C-4262-BAD7-81E98310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78E8-D115-4B28-8703-20ECFA69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A6504-E7A9-41F0-8CE9-5982323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F71A7-9AA7-42F3-85C3-DAA64E00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6BF2C-65BE-4643-B3B7-3A47975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31CD7-F3A0-4EE1-B581-2D88C23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69985-99E8-4284-9218-28F9B89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938-DDD6-44A4-89C8-9AC1E01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32831-4139-4DB6-ABCA-7F12A437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0C379-8C8C-4E38-A719-19243FFB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6D20E-3F62-4CF4-A710-7A57E18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A0BC4-68AC-4ACC-837F-0B97DF8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AC875-B759-42AC-ABB6-F6038DA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E1891-D933-43C0-973C-2FD8A0EE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4C6EB-671A-43C7-B616-A422AB3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3D48A-2E47-4ADB-8F52-71075867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9BF15-7CB4-4134-BEFB-2F582BC6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7F147-D81A-4B1D-A636-9186B49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48E-3ACD-414C-A0C1-5FF44577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ADE8F-B364-4D4A-9453-4E2D2E52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407EF-A186-4367-89F8-DA24E916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CB5A8-3612-4D68-AFFF-1706C94B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5FED0-C69B-46CC-B528-7B8BB21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7CCD6-AD4A-4D9F-804C-9821D29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94720-C600-47CB-AB0E-06159E7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0D6A-0BF6-4079-8CF8-502DD94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92F44-80FF-4F08-A34E-8BB85B30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9F063-D9B1-4D6D-8064-E01B5C93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08CF8-10F9-4B30-B48B-F54EC00B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278-41B5-403A-899A-C7A0A7E0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1E00C-107D-422C-99F5-A7360775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03EF4-0A9C-4024-955B-8D60673F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A574F-D67C-4960-9DD0-395087F2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0D04E-A87D-481F-BD86-EB85447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A2507-41B1-4E28-9DC4-3F92DDC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006B8-3068-4688-9058-BCFEBE4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DB18D-81A3-4CCC-B356-31DA056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C24E8-B25C-49BE-964D-7F0C623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15F5F-18E7-4CFE-9371-A7655F4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EB0D6-F5C5-4B3A-85A2-FB491A2A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8D4-F170-43D8-852A-978571F1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DB499-1DD9-47BC-8644-1A81A360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2BBB1-23D6-4BDA-9519-9E0EE42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3EDE4-7326-4F53-860E-45D2996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0177-44C6-4A58-A548-51C1A6A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1ADBF-29B4-4928-A240-1B8AD77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D1D3-E46F-4B87-BAD2-1716D9E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5520-84A0-4937-8C4C-69019DCC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9EF2-FE54-4728-A5C2-80367EA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621B-1E31-4EDC-9852-BDDDD511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8F40-0EC2-4044-86AC-ECA5285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BE5-7927-41F7-B1C3-EDC1062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73EE-6A79-47E2-8941-3F48A90E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8851-F1D1-4948-926A-FB07209E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C0C4-C3DC-4902-A9EE-4675264E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6F060-C988-49A4-B02B-8DC4258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B9352-76A0-4168-962B-AD1C41F8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B3BAC-C0CA-415D-9ACF-0E8A8761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FDD6F-429F-47B2-A4A8-ED84BE77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9152E-616C-46AA-936C-7C20C93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FD8A5-E60A-4411-8374-B395D7D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BDEE8-ABDA-4E52-8CC6-C16B919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A53-AD75-4C5E-95D8-5C9939E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412B7-B57A-4ACC-9C57-94C83CF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F9D4E-67B5-49AA-8F81-8D73065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86512-4CA4-44B0-A5FF-080FEC3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40FAA-1DB5-4A11-8783-C7CF508C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3EF9C-E1CC-4D37-845D-4A426B0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59885-2A96-4851-B1F3-C204C9F6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1E91-F241-48C2-A5C6-1E4AFAD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812E-7D61-422A-B0FC-B46BD5C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47C0E-10D1-4303-B1C6-4CD4134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C1DD6-C298-46A6-B7DC-0F5D3B36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BE1-DFE8-410F-BC74-92A8C4C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4EF03-F475-43BC-A3F7-4DE1635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264E-4973-41F7-9CB5-BB2CCB5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8E5F-2FCB-421D-8436-4B54816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813C-5AEA-4911-9B76-9ED8595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F173-DF6B-4F0D-B42F-4F7A249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AAAC-FEB9-48D6-ABAA-2985E9C3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08E1-5DF0-4126-8528-BC2B229C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75A-C4E7-4BD6-A50B-F811E997B22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EBE-0F7A-40A4-9894-8314D1EE83AA}" type="slidenum">
              <a:rPr b="1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8B1A-50C0-4B7C-B802-65D128880EB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D7A-2368-4DCA-BA71-6CD3699987C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B0E-048C-4545-A2C1-88A450E0D27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79D-35FF-4095-BB52-3CA99E1EB8D8}" type="slidenum">
              <a:rPr b="1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AE9F-9597-4208-B3EF-B5EE753C840C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552-D0F1-44B1-8047-1B8EC340F25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dpptmfmp@gmail.com" TargetMode="External"/><Relationship Id="rId2" Type="http://schemas.openxmlformats.org/officeDocument/2006/relationships/hyperlink" Target="mailto:dpptmekolog@gmail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630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Социальные сервисы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еб 2.0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 проектной деятельности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ртовую презентацию подготовила М.А. Габо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680" y="407196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м свой проект и размещаем его в с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Этапы работы над проектом (с. 13 – 15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ание темы, основополагающего и проблемных вопросов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ределение целей и задач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ка и обсуждение тем индивиду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ланирование работы в груп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иск информации по темам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амостоятельная работа над индивидуальными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, выбор формы представления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ы делаем сегодн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420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комимся с теоретическим материалом по теме (презентация «Проекты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атриваем примеры проектов (в хрестоматии и на диске –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лняем лист планирования работы по проекту (сетевая папк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улируем творческую тему группового проекта и его основополагающий вопрос (помощь – презентация «Основ вопрос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темы индивидуальных проектов в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обязанности по разработке портфолио проекта в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истрируем группу в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gl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а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iki.kgpi.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ем заполнять визитные карточки проектов (с. 22 – 27 и на диске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Портфолио проекта групп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-страничка с общим описанием проекта и ссылками на индивидуальные проек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Презентац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Сайт или блог проек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Портфолио индивидуального проек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убликация или презентация по материалам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резентация проекта или </a:t>
            </a:r>
            <a:r>
              <a:rPr b="0" lang="en-US" sz="27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-стать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Дидактические материалы (конспекты, игры, кроссворды, схемы для детей или студен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Информационные материалы (статьи, интересные факты, энциклопедические сведения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Аннотированный каталог информационных ресур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500"/>
                            </p:stCondLst>
                            <p:childTnLst>
                              <p:par>
                                <p:cTn id="8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alibri"/>
              </a:rPr>
              <a:t>Лучшие прое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быть представлены на научно-практической конференции студентов и аспирантов КГПИ (и на других конференциях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участвовать в конкурсе проектов студентов КГП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alibri"/>
              </a:rPr>
              <a:t>Контактная информ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Габова Марина Анатолье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1"/>
              </a:rPr>
              <a:t>dpptmfmp@gmail.com</a:t>
            </a:r>
            <a:r>
              <a:rPr b="0" lang="en-US" sz="2000" spc="-1" strike="noStrike">
                <a:solidFill>
                  <a:srgbClr val="004e6d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Партыка Надежда Владимир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</a:t>
            </a:r>
            <a:r>
              <a:rPr b="0" lang="ru-RU" sz="20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2"/>
              </a:rPr>
              <a:t>dpptmekolog@gmail.com</a:t>
            </a: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оми государственный педагогический инсти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федра педагогики и методик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Г. Сыктывкар, ул. Коммунистическая, д. 21 (1 корпус КГП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б. 3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08" dur="2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Желаем успех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 осво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метода проект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и сетевых сервис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еб 2.0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ая характеристика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Тем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а ИКТ в экологическом образовании детей дошкольного возр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астники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уденты 636 групп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ебные дисциплин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овременных информационных и коммуникационных технологий в учебном процес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ия и методика экологического образования д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Руководит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ина Анатольевна Габова, к.п.н., доцен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жда Владимировна Партыка, ст. преподав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Цель проекта: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дготовка студентов к работе по экологическому образованию дет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599840"/>
            <a:ext cx="871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Calibri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кать студентов к самостоятельному поиску и анализу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особствовать овладению студентами научно-исследовательскими умениями как основой проектирования работы по экологическому образованию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развитию научно-методического кругозора студентов, побуждать к самообразованию, саморазвит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ть становление творческой активной позиции студентов во взаимодействии в процессе коллективного поиска идей, достижение совместных творческих результа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вать условия для освоения умений использовать информационные технологии для представления хода и результатов исследователь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3200"/>
            </a:b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зн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еречислить основные виды растений и животных в уголке природы дошкольного учреждения, доступных пониманию детьми дошкольного возрас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формулировать требования к условиям содержания определенных видов растений и животных в уголке приро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оним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рассуждать о возможностях использования средства ИКТ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оздания дид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презентации результатов своей рабо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) организации занятий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)  поиска информации по теме исслед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67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римен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подбирать задания, направленные на ознакомление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 комнатными растения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с обитателями аквариума, террариума, акватеррари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использовать современные научно обоснованные приемы, методы и средства обучения, в том числе ИК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анализ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называть основные видовые признаки растений и животных уголка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характеризовать особенности ухода за определенными обитателями уголков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отбирать приемы ознакомления детей с растениями и животными в разных возрастных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643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синтез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самостоятельно конструировать развивающие задани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планирование и проведение занятий с деть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построение предметно-развивающей среды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моделирование образовательного процесса в соответствии с современными концепциями дошкольного образов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оценки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роводить самоанализ и самооценку, взаимоанализ и взаимооценку деятельности  с целью повышения педагогической квалифик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мероприятия по организации контроля за результатами обучения и воспит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Умения 21-го века осваиваем в проекте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Ответственность и адаптив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ибкость в личных, учебных и профессиональных делах; достижение высоких стандартов и целей для себя и друг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оммуникативные умен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онимание другого, умение создавать эффективные формы устного, письменного, мультимедийного и сетевого общ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еативность и любозн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енерирование новых идей, их применение и обмен с другими; открытость новым и отличающимся от собственной точкам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итическое и системное мышлен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ышление, обуславливающее совершение верного выбора; понимание взаимосвязей в сложных систем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Информационная и медиа грамот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находить, анализировать, обрабатывать, интегрировать, оценивать информацию в разных формах и на различных типах медиаоборуд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Межличностное взаимодействие и сотрудничеств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работать в команде; выполнять разные роли и обязанности; продуктивно взаимодействовать с другими; сопереживать; уважать различные мн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Постановка и решение проблем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способность формулировать, анализировать и решать пробл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Направленность на саморазвит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мониторинг процесса освоения и своих потребностей в обучении; поиск ресурсов; перемещение информации из одной области знаний в другу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Социальная ответ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действовать в интересах сообщества; демонстрация этичного поведения в личном и общественном контекст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171432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Основополагающий вопрос проекта: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Как средства ИКТ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помогают педагогу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в экологическом образовании детей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емы творческих проектов студен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натные растения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квариум – модель экологической систем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ицы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лкие млекопитающие – постоянные обитатели живого угол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зонные обитатели уголка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49:41Z</dcterms:created>
  <dc:creator>Serg</dc:creator>
  <dc:description/>
  <dc:language>en-US</dc:language>
  <cp:lastModifiedBy>Serg</cp:lastModifiedBy>
  <dcterms:modified xsi:type="dcterms:W3CDTF">2010-03-11T15:21:46Z</dcterms:modified>
  <cp:revision>14</cp:revision>
  <dc:subject/>
  <dc:title>Слайд 1</dc:title>
</cp:coreProperties>
</file>